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BC5-7FB8-4F50-B57F-8EC8CFB9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182-C9AB-409B-A6E4-BE7D0EAC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2C9-328E-4AE3-8E74-A0183894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216-96F3-4ADB-B695-B5071896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26B0-D568-4EDB-ABC4-88D7FB07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3D92-07B0-47DA-81D3-66D937D1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3FD7-52BF-41AE-AD05-2A8F0CD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1035-E1C7-40F2-8FBE-752FCE52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47A4-4836-45DA-9D08-2FF6593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D24-E14B-4A01-BE47-C216DB54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5857-A495-49BB-A0A9-136396F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8A8-7F98-44AC-A1E8-99628DB8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C95C-6672-4F52-837D-EB85B53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7273-69A1-4B99-BD05-1BA739F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2D68-A67A-4550-8E1F-2694FC55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BE90-C7AC-495E-942C-6BCE4ED0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D13D-5F25-4E20-9071-6D220C4F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DDF-EC3C-4AB9-A24D-39800E2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E63-DA8C-44C2-A94D-CBBEA7E5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F44-6931-42E4-A9F2-16BAD006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910-4BCD-485D-8712-E3355D84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92F-D6EC-4AF5-8E56-D201AFC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61A-D617-4CA0-A4C5-DBD6989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983-242B-4665-BC22-3F8122A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9040" y="6342120"/>
            <a:ext cx="3565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3800" y="6342120"/>
            <a:ext cx="2543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7760" y="54000"/>
            <a:ext cx="1982880" cy="65412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3586320" y="452520"/>
            <a:ext cx="1984320" cy="30456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586320" y="507960"/>
            <a:ext cx="1984320" cy="30636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3598920" y="557280"/>
            <a:ext cx="1947960" cy="22860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4869000" y="249120"/>
            <a:ext cx="12204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3605040" y="19080"/>
            <a:ext cx="1951200" cy="4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4191120" y="235080"/>
            <a:ext cx="903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4" name="Freeform 16"/>
            <p:cNvSpPr/>
            <p:nvPr/>
          </p:nvSpPr>
          <p:spPr>
            <a:xfrm>
              <a:off x="63360" y="154080"/>
              <a:ext cx="3435480" cy="42372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3360" y="425520"/>
              <a:ext cx="3435480" cy="1825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3360" y="487440"/>
              <a:ext cx="3435480" cy="18720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2440" y="165240"/>
              <a:ext cx="338148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90360" y="550800"/>
              <a:ext cx="3378240" cy="986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20" name="Freeform 22"/>
            <p:cNvSpPr/>
            <p:nvPr/>
          </p:nvSpPr>
          <p:spPr>
            <a:xfrm>
              <a:off x="5646600" y="154080"/>
              <a:ext cx="3435480" cy="45072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46600" y="441360"/>
              <a:ext cx="3435480" cy="1951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5646600" y="507960"/>
              <a:ext cx="3435480" cy="19836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667480" y="165240"/>
              <a:ext cx="3379680" cy="25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5673600" y="576360"/>
              <a:ext cx="3378240" cy="1029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5"/>
          <p:cNvSpPr/>
          <p:nvPr/>
        </p:nvSpPr>
        <p:spPr>
          <a:xfrm>
            <a:off x="3024360" y="46080"/>
            <a:ext cx="3144600" cy="104616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6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7"/>
          <p:cNvSpPr/>
          <p:nvPr/>
        </p:nvSpPr>
        <p:spPr>
          <a:xfrm>
            <a:off x="3022560" y="684360"/>
            <a:ext cx="3146400" cy="48564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8"/>
          <p:cNvSpPr/>
          <p:nvPr/>
        </p:nvSpPr>
        <p:spPr>
          <a:xfrm>
            <a:off x="3022560" y="771480"/>
            <a:ext cx="3146400" cy="49068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3044880" y="851040"/>
            <a:ext cx="3085920" cy="36504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5057640" y="358920"/>
            <a:ext cx="193680" cy="64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1"/>
          <p:cNvSpPr/>
          <p:nvPr/>
        </p:nvSpPr>
        <p:spPr>
          <a:xfrm>
            <a:off x="3052800" y="4680"/>
            <a:ext cx="3092400" cy="64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2"/>
          <p:cNvSpPr/>
          <p:nvPr/>
        </p:nvSpPr>
        <p:spPr>
          <a:xfrm>
            <a:off x="3981600" y="334800"/>
            <a:ext cx="142560" cy="63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3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4"/>
            <p:cNvSpPr/>
            <p:nvPr/>
          </p:nvSpPr>
          <p:spPr>
            <a:xfrm>
              <a:off x="147600" y="209520"/>
              <a:ext cx="2795760" cy="67788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135000" y="654120"/>
              <a:ext cx="2795400" cy="293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135000" y="755640"/>
              <a:ext cx="2795400" cy="29844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150840" y="239760"/>
              <a:ext cx="275112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155520" y="855720"/>
              <a:ext cx="2751120" cy="1587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9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0"/>
            <p:cNvSpPr/>
            <p:nvPr/>
          </p:nvSpPr>
          <p:spPr>
            <a:xfrm>
              <a:off x="6243480" y="222120"/>
              <a:ext cx="2795760" cy="70668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6243480" y="674640"/>
              <a:ext cx="2795760" cy="3016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6243480" y="776160"/>
              <a:ext cx="2795760" cy="31284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6259680" y="241200"/>
              <a:ext cx="275112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6264360" y="882720"/>
              <a:ext cx="2751120" cy="163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204840" y="6313320"/>
            <a:ext cx="2636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2933280" y="6300720"/>
            <a:ext cx="333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359400" y="6289560"/>
            <a:ext cx="2578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Louis And Boris Get Ev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r, The Long An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Short of It Al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7" descr=""/>
          <p:cNvPicPr/>
          <p:nvPr/>
        </p:nvPicPr>
        <p:blipFill>
          <a:blip r:embed="rId1"/>
          <a:stretch/>
        </p:blipFill>
        <p:spPr>
          <a:xfrm>
            <a:off x="7238880" y="4572000"/>
            <a:ext cx="905040" cy="135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115720"/>
            <a:ext cx="32004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uis and Boris are best frien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uis is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ttlesmallian;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is 12 cm t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ris is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gmanian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is 600 cm t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4241880" y="1752480"/>
          <a:ext cx="343224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1880" y="1752480"/>
                    <a:ext cx="34322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7162920" y="3432240"/>
          <a:ext cx="907920" cy="129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3432240"/>
                    <a:ext cx="90792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ctors orde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15720"/>
            <a:ext cx="42670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uis is taking Huma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wth Horm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will be growing 5 c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 year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cation is prescrib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ginning January 1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1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Object 0" descr=""/>
          <p:cNvPicPr/>
          <p:nvPr/>
        </p:nvPicPr>
        <p:blipFill>
          <a:blip r:embed="rId1"/>
          <a:stretch/>
        </p:blipFill>
        <p:spPr>
          <a:xfrm>
            <a:off x="5975280" y="2057400"/>
            <a:ext cx="2025720" cy="380988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1" descr=""/>
          <p:cNvPicPr/>
          <p:nvPr/>
        </p:nvPicPr>
        <p:blipFill>
          <a:blip r:embed="rId2"/>
          <a:stretch/>
        </p:blipFill>
        <p:spPr>
          <a:xfrm flipH="1">
            <a:off x="6400440" y="1298520"/>
            <a:ext cx="5317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th-food Nu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81280" y="21333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ris is tired of bumping hi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d everywhere he goes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looks into organi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ing pills and his height i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ing by 44 cm a year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started taking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cation on Jan. 1, 2011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Object 6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467160" cy="563256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7" descr=""/>
          <p:cNvPicPr/>
          <p:nvPr/>
        </p:nvPicPr>
        <p:blipFill>
          <a:blip r:embed="rId2"/>
          <a:stretch/>
        </p:blipFill>
        <p:spPr>
          <a:xfrm flipH="1">
            <a:off x="2133720" y="5181480"/>
            <a:ext cx="1218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our ques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2115720"/>
            <a:ext cx="71625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How many years will it take before the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 same height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How tall will they be when they are th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siz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When, theoretically, would Bor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appea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w Your Work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15720"/>
            <a:ext cx="3505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ow all work in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at and organiz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n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lain carefully, i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ri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how yo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rived at yo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swe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34131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you need to hand up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116080"/>
            <a:ext cx="7620120" cy="42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st paragraph--write out the scenario as i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s given to you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nd paragraph--write out the process, o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sses, you used to solve the probl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w any table, chart, graph, picture, etc.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helped you solve the probl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rd paragraph--state the answers to the ques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20:37:22Z</dcterms:created>
  <dc:creator>C.U.S.D.</dc:creator>
  <dc:description/>
  <dc:language>en-US</dc:language>
  <cp:lastModifiedBy>Carol</cp:lastModifiedBy>
  <dcterms:modified xsi:type="dcterms:W3CDTF">2010-09-04T10:05:03Z</dcterms:modified>
  <cp:revision>8</cp:revision>
  <dc:subject/>
  <dc:title>Louis And Boris Get Even</dc:title>
</cp:coreProperties>
</file>